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A3A8-C51D-4B0F-9E93-335A41D5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82E4-78B7-4ECF-94C6-E42140E9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5374-592D-42EA-A632-3A83494D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AF1A-1F9C-4394-B9D4-2B1BCF8CA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03C8-7289-4721-BE08-BC0561D5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0C60-BCB8-40FA-9834-D34F5CCB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F910-4335-43E6-B9D6-89CFE293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7BDD-7A56-4C3A-B5A3-E820B00D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73DD-218B-44B7-8B14-B79F3813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D84D-B8D0-434A-8811-BF9EDC76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01D1-421B-44A9-8A6F-7C78834A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E2C3-6EBA-4D5E-947C-197904FF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64C2-790E-4DC6-892F-BCE5CEB74F5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EIGH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Exercises 1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909240" y="124308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142920" y="1941480"/>
            <a:ext cx="8715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Χριστος ὁ βασιλευς Ἰσραηλ καταβατω νυν ἀπο του σταυρου, ἱνα ἰδωμεν και πιστευσωμε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 ἐλεγον∙ Οὐχ οὑτος ἐστιν Ἰησους ὁ υἱος Ἰωσηφ, οὑ ἡμεις οἰδαμεν τον πατερα και την μητερ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ως νυν λεγει ὁτι Ἐκ του οὐρανου καταβεβηκ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δε Ἰησους εἰπεν αὐτοις∙ Οὐκ οἰδατε τί αἰτεισθε. δυνασθε πιειν το ποτηριον ὃ ἐγω πινω ἠ το βαπτισμα ὃ ἐγω βαπτιζομαι βαπτισθηνα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357120" y="1714680"/>
            <a:ext cx="77151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ἀφ’ ἑαυτου λαλων ζητει την δοξαν την ἰδιαν∙ ὁ δε ζητων την δοξαν του πεμψαντος αὐτον οὑτος ἀληθης ἐστιν και ἀδικια ἐν αὐτῳ οὐκ ἐστιν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τε ὁ Ἰησους εἰπεν τοις μαθηταις αὐτου∙ Εἰ τις θελει ὀπισω μου ἐλθειν, ἀρνησασθω ἑαυτον και ἀρατω τον σταυρον αὐτου και ἀπολουθειτω μο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 Μαρια θεωρει δυο ἀγγελους ἐν λευκοις καθιζομενους, ἑνα προς τῃ κεφαλῃ και ἑνα προς τοις ποσιν, ὁπου ἐκειτο το σωμα του Ἰησου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285840" y="1500120"/>
            <a:ext cx="85010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εγοντες δε φωνῃ μεγαλῃ εἰπαν∙ Ἀξιον ἐστιν το ἀρνιον καθημενον ἐπι τῳ θρονῳ ἐν δεξιᾳ του θεου λαβειν την δυναμιν και σοφιαν και τιμην και δοξα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μεν οὐν κυριος Ἰησους μετα το λαλησαι αὐτοις ἀνεβη εἰς τον οὐρανον και ἐκαθητο ἐκ δεξιων του θε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essed are the pure in heart, because they will see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ower of God was there with a view to healing the sick and cleansing those with unclean spir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re working now in order to read the New Testa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r knowledge is growing with the result that we are able to learn from the writings: first, the gospel according to Mark.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Exercises 4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3917160" y="124308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142920" y="1941480"/>
            <a:ext cx="8715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ρευθεντες δε μαθετε τί ἐστιν∙ Δει τον υἱον του ἀνθρωπου πολλα παθε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 παλιν ἠρξατο διδασκειν παρα την θαλασσαν∙ και συναγεται προς αὐτον ὀχλος πολυς, ὡστε αὐτον εἰς πλοιον ἐμβαντα καθησθαι ἐν τῃ θαλασσῃ, και πας ὁ ὀχλος προς την θαλασσαν ἐπι της γης ἠσα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υναμεις και σημεια ἐποιησεν δι’ αὐτου ὁ θεος ἐν μεσῳ ὑμων καθως αὐτοι οἰδατε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214200" y="1434960"/>
            <a:ext cx="892980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θεριζων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arvester/reaper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ισθον λαμβανει και συναγει καρπον εἰς ζωην αἰωνιον, ἱνα ὁ σπειρων ὁμου χαιρῃ και ὁ θεριζ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νδυσασθε το ἱματιον το καθαρον προς το δυνασθαι εἰναι μετα του βασιλεως και των φιλων αὐτ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ἱ δε ἀρχιερεις και παντες οἱ λοιποι ἐζητουν κατα του Ἰησου μαρτυριαν εἰς το ἀποκτεινειν αὐτον, και οὐχ ηὑρισκ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 ἐν τῳ κατηγορεισθαι αὐτον ὑπο των ἀρχιερεων και πρεσβυτερων οὐδεν ἀπεκρινατο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142920" y="638280"/>
            <a:ext cx="885816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δε Ἡρῳδης ἰδων τον Ἰησουν ἐχαρη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rreg. Aorist 3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sing. of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χαιρω], ἠν γαρ ἐξ ἱκανων χρονων θελων ἰδειν αὐτον δια το ἀκουειν περι αὐτου και ἠλπιζεν τι σημειον ἰδειν ὑπ’ αὐτου γινομεν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t is necessary that servants of God be spiritual, worthy, and capable, free from impure desire, not new in the faith, and not unfaithfu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e is treating you unjustly with the result that you are not able to receive your wag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For do you rich not have homes for the purpose of eating and drinking i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 strong, because they are free, are able to sit and eat with the unclean nation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Exercises 7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169920" y="1176480"/>
            <a:ext cx="87868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thew 6.9-13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ὕτως οὖν προσεύχεσθε ὑμεῖς∙ Πάτερ ἡμῶν ὁ ἐν τοῖς οὐρανοῖς, ἁγιασθήτω τὸ ὄνομά σου∙ </a:t>
            </a:r>
            <a:r>
              <a:rPr b="0" lang="el-GR" sz="2700" spc="-1" strike="noStrike" baseline="30000">
                <a:solidFill>
                  <a:srgbClr val="000000"/>
                </a:solidFill>
                <a:latin typeface="Gentium"/>
              </a:rPr>
              <a:t>10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ἐλθέτω ἡ βασιλεία σου∙ γενηθήτω τὸ θέλημά σου, ὡς ἐν οὐρανᾠ καὶ ἐπὶ γῆς∙ </a:t>
            </a:r>
            <a:r>
              <a:rPr b="0" lang="el-GR" sz="2700" spc="-1" strike="noStrike" baseline="30000">
                <a:solidFill>
                  <a:srgbClr val="000000"/>
                </a:solidFill>
                <a:latin typeface="Gentium"/>
              </a:rPr>
              <a:t>11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Τὸν ἄρτον ἡμῶν τὸν ἐπιούσιον 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for today, for the coming day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ὸς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give!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μῖν σήμερον∙ </a:t>
            </a:r>
            <a:r>
              <a:rPr b="0" lang="el-GR" sz="2700" spc="-1" strike="noStrike" baseline="30000">
                <a:solidFill>
                  <a:srgbClr val="000000"/>
                </a:solidFill>
                <a:latin typeface="Gentium"/>
              </a:rPr>
              <a:t>12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καὶ ἄφες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forgive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φιημι] ἡμῖν τὰ ὀφειλήματα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ebts, from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ὀφειλω] ἡμῶν, ὡς καὶ ἡμεῖς ἀφήκαμεν [ἀφιημι] τοῖς ὀφειλέταις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ebtors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μῶν. </a:t>
            </a:r>
            <a:r>
              <a:rPr b="0" lang="el-GR" sz="2700" spc="-1" strike="noStrike" baseline="30000">
                <a:solidFill>
                  <a:srgbClr val="000000"/>
                </a:solidFill>
                <a:latin typeface="Gentium"/>
              </a:rPr>
              <a:t>13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καὶ μὴ εἰσενέγκῃς [εἰσφερω = εἰς + φερω] ἡμᾶς εἰς πειρασμόν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ime of testing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]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λλὰ ῥῦσαι ἡμᾶς ἀπὸ τοῦ πονηροῦ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9:18:09Z</dcterms:created>
  <dc:creator>Sarah</dc:creator>
  <dc:description/>
  <dc:language>en-US</dc:language>
  <cp:lastModifiedBy>Sarah</cp:lastModifiedBy>
  <dcterms:modified xsi:type="dcterms:W3CDTF">2009-07-09T19:11:16Z</dcterms:modified>
  <cp:revision>22</cp:revision>
  <dc:subject/>
  <dc:title>Slide 1</dc:title>
</cp:coreProperties>
</file>